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E23-6E76-43A8-B095-7B225917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947-A2A3-4C67-A0A1-5D34BF89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1A1-61D1-491C-80B7-41B973A2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659-30FE-48A0-9A69-2442312D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CEF7-D0E2-4615-9CBA-882842F3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EB34-FD47-410F-BC41-587C226B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726F-F897-4993-914A-DA34CE24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EE2E-78A0-4793-9561-3D691219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51F9-8AE6-4ACD-BF9D-9746EB52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8F4C-26CE-4D0F-B00E-90990F9C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2557-CD3E-4B64-AECB-02565E31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C1E-A091-45F2-AC68-CF181E1F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87BA-E724-45E6-9BB5-8FC31D28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DE06-1406-48AF-9551-E8F6517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9469-EE87-4317-8F1C-B8C36FB6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1975-4698-46C1-BC3F-374DB64A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651F-EAA6-4D2F-BEE3-BF6FE32D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9BB-BC22-44FA-974E-C668255F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433-51AD-473A-93F5-D86ABE17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292-F1B4-4DC8-88E8-605BA1CA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6F6-BFAD-497F-AF17-19277FFC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784-CC60-4748-97EA-CE1EDF93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291-6F01-41BB-8912-47CBD025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B68-ED96-4142-9FB3-96DDC6CC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FF67-0F6F-4339-8DFF-3F4967EC9DAF}" type="slidenum">
              <a:rPr b="0" lang="ar-S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BDD2-D4CD-4AB4-95D4-AF339482A304}" type="slidenum">
              <a:rPr b="0" lang="ar-S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5998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200" spc="-1" strike="noStrike">
                <a:solidFill>
                  <a:srgbClr val="ff2121"/>
                </a:solidFill>
                <a:latin typeface="Tw Cen MT"/>
                <a:ea typeface="Tahom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666880" y="4495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83808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oper Black"/>
              </a:rPr>
              <a:t>Interesting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oper Black"/>
              </a:rPr>
              <a:t>Podcast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Example 1 – Scrambled Egg Sam</a:t>
            </a: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on iTunes U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s podcast was about a boy who had written a story based on a character in the popular video game Guitar Hero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s was a very creative idea., but it would have benefited from stating suggestions for implementation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eachers can gain ideas from this video to further engage their students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w Cen MT"/>
              </a:rPr>
              <a:t>Example 2 – What’s on Your Macbook? Garageband</a:t>
            </a:r>
            <a:endParaRPr b="0" lang="en-US" sz="3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On iTunes U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s podcast explained the uses of the Garageband software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reative ideas were mentioned here, but there were no visuals, and the ideas were not expanded upon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I would play this podcast for middle school students to give them ideas on what can be done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w Cen MT"/>
              </a:rPr>
              <a:t>Example 3 – Brown Bear (French Alphabet)</a:t>
            </a:r>
            <a:endParaRPr b="0" lang="en-US" sz="3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On iTunes U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algn="ct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s podcast was of a woman teaching the French alphabet to students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 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woman pointed out the similarities between some English letters and some French letters. I feel that the podcast would have been more interesting with graphics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I would play this video for middle/high school students who are just learning French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1:56:54Z</dcterms:created>
  <dc:creator>PGCPS</dc:creator>
  <dc:description/>
  <dc:language>en-US</dc:language>
  <cp:lastModifiedBy>PGCPS</cp:lastModifiedBy>
  <dcterms:modified xsi:type="dcterms:W3CDTF">2009-11-03T22:09:20Z</dcterms:modified>
  <cp:revision>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6611033</vt:lpwstr>
  </property>
</Properties>
</file>